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A2CC-1CA7-4A19-A4B4-09F88A9B2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0D43-0AEA-4DF9-8581-7BDA8C1BFE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70BF-7E20-42BC-B375-F80F69A4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F987-6D08-4CAA-B8FD-CE1C7145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400D-FBC5-4B8F-81BC-305A2137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8163-98A6-4336-BD47-EFE547B2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F8AC-0FF6-4AE8-8D64-761DC01F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52DE-4FDF-4CDF-9662-9AFD07F9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4BB2-8666-435C-9247-AF4ED36C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457F-DE2F-4A88-8238-4573B6C5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8D1F-C2B0-461A-82A0-5B631A77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2980-7A97-4323-8520-FA21CA02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DA13-1EAF-41A2-B595-6F8A447A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0F87-FD77-4639-8B20-47BC11D0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DB2F-B62B-4405-9A69-2BE381AB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8B35-60CB-4489-946D-21E7EA33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6E32-55B9-42D6-BDD2-BF637AE7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B51B-EEE9-44B3-8AD9-9BC67589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3B1E-EBF7-4AE8-A185-5353962F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1675-AC63-42F6-AA9B-1D4E80D5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40F9-C6C7-45C9-BEFB-37EC478E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C9F5-B6A7-49C4-94FE-80BAA79B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CD95-D740-4258-802A-AACE0C95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A1D7-8A9C-4BC0-9A97-99A9D0C8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57F0-33A3-48F0-BD90-B6FC86D3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CAE9-3351-4360-A694-3DCEEED7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6BD6-EC86-433E-9F74-63F198151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7D8D-B993-4B61-A292-1FB1CDCF8A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r.wikipedia.org/w/index.php?title=&#1057;&#1090;&#1077;&#1088;&#1086;&#1080;&#1076;&#1085;&#1080;_&#1093;&#1086;&#1088;&#1084;&#1086;&#1085;&#1080;&amp;action=edit&amp;redlink=1" TargetMode="External"/><Relationship Id="rId2" Type="http://schemas.openxmlformats.org/officeDocument/2006/relationships/hyperlink" Target="http://sr.wikipedia.org/w/index.php?title=&#1057;&#1090;&#1077;&#1088;&#1086;&#1080;&#1076;&#1085;&#1080;_&#1093;&#1086;&#1088;&#1084;&#1086;&#1085;&#1080;&amp;action=edit&amp;redlink=1" TargetMode="External"/><Relationship Id="rId3" Type="http://schemas.openxmlformats.org/officeDocument/2006/relationships/hyperlink" Target="http://sr.wikipedia.org/w/index.php?title=&#1057;&#1090;&#1077;&#1088;&#1086;&#1080;&#1076;&#1085;&#1080;_&#1093;&#1086;&#1088;&#1084;&#1086;&#1085;&#1080;&amp;action=edit&amp;redlink=1" TargetMode="External"/><Relationship Id="rId4" Type="http://schemas.openxmlformats.org/officeDocument/2006/relationships/hyperlink" Target="http://sr.wikipedia.org/w/index.php?title=&#1041;&#1080;&#1086;&#1089;&#1080;&#1085;&#1090;&#1077;&#1079;&#1072;_&#1087;&#1088;&#1086;&#1090;&#1077;&#1080;&#1085;&#1072;&amp;action=edit&amp;redlink=1" TargetMode="External"/><Relationship Id="rId5" Type="http://schemas.openxmlformats.org/officeDocument/2006/relationships/hyperlink" Target="http://sr.wikipedia.org/w/index.php?title=&#1041;&#1080;&#1086;&#1089;&#1080;&#1085;&#1090;&#1077;&#1079;&#1072;_&#1087;&#1088;&#1086;&#1090;&#1077;&#1080;&#1085;&#1072;&amp;action=edit&amp;redlink=1" TargetMode="External"/><Relationship Id="rId6" Type="http://schemas.openxmlformats.org/officeDocument/2006/relationships/hyperlink" Target="http://sr.wikipedia.org/w/index.php?title=&#1041;&#1080;&#1086;&#1089;&#1080;&#1085;&#1090;&#1077;&#1079;&#1072;_&#1087;&#1088;&#1086;&#1090;&#1077;&#1080;&#1085;&#1072;&amp;action=edit&amp;redlink=1" TargetMode="Externa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itnessvodic.com/images/anabolicki-steroidi/anabolicki-steroidi.jpg&amp;imgrefurl=http://www.fitnessvodic.com/anabolicki-steroidi/details/anabolicki-steroidi-38.html&amp;usg=__2VG7Ny4HMLMtpHO348ddYP2-QT0=&amp;h=450&amp;w=400&amp;sz=37&amp;hl=sr&amp;start=3&amp;um=1&amp;itbs=1&amp;tbnid=dHIXVxFPWzooUM:&amp;tbnh=127&amp;tbnw=113&amp;prev=/images%3Fq%3Dbodibilderi%26um%3D1%26hl%3Dsr%26sa%3DN%26rlz%3D1T4RNWN_enRS309RS310%26tbs%3Disch:1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vukajlija.com/attached_images/0001/7139/Funny_Sports_32.jpg&amp;imgrefurl=http://vukajlija.com/bilder&amp;usg=__YeD8xyoNbgeRnkolrI9SFYza6rU=&amp;h=378&amp;w=320&amp;sz=43&amp;hl=sr&amp;start=106&amp;um=1&amp;itbs=1&amp;tbnid=rlDj9ZVwsQRo0M:&amp;tbnh=122&amp;tbnw=103&amp;prev=/images%3Fq%3Dbodibilderi%26start%3D90%26um%3D1%26hl%3Dsr%26sa%3DN%26rlz%3D1T4RNWN_enRS309RS310%26ndsp%3D18%26tbs%3Disch:1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com/imgres?imgurl=http://media.buzzhumor.com/7/muscle-woman-bodybuilder5ee81f.jpg&amp;imgrefurl=http://www.xomba.com/women_bodybuilding_workout_tips&amp;usg=__8_w4GLy9AK4TUt_pvFi3oVy3Lro=&amp;h=318&amp;w=424&amp;sz=41&amp;hl=sr&amp;start=68&amp;um=1&amp;itbs=1&amp;tbnid=_U2NoXDba69qmM:&amp;tbnh=94&amp;tbnw=126&amp;prev=/images%3Fq%3Dbodibilding%2Bzene%26start%3D54%26um%3D1%26hl%3Dsr%26sa%3DN%26rlz%3D1T4RNWN_enRS309RS310%26ndsp%3D18%26tbs%3Disch:1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iary.cadenza.org/ricardo-frantz/belvedere_apollo_pio-clementino_inv1015.jpg&amp;imgrefurl=http://www.diary.cadenza.org/ricardo-frantz/gloria-in-excelsis-deo.htm&amp;usg=__XPefx4VcQJJnlVNkgkH9JQfFPO0=&amp;h=3008&amp;w=2000&amp;sz=3166&amp;hl=sr&amp;start=14&amp;um=1&amp;itbs=1&amp;tbnid=0pES0i-F9toYHM:&amp;tbnh=150&amp;tbnw=100&amp;prev=/images%3Fq%3Dapolon%26um%3D1%26hl%3Dsr%26sa%3DN%26rlz%3D1T4RNWN_enRS309RS310%26ndsp%3D18%26tbs%3Disch:1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google.com/imgres?imgurl=http://www.cefax.org/tecno/grecia16/imatges/18.%252520afrodita%255B1%255D.jpg&amp;imgrefurl=http://www.cefax.org/tecno/grecia16/afrodita.htm&amp;usg=__3_ws3ciCC11Hw-MjMCFSRmCoJvA=&amp;h=940&amp;w=547&amp;sz=54&amp;hl=sr&amp;start=9&amp;um=1&amp;itbs=1&amp;tbnid=WaAQgZLGlzdN0M:&amp;tbnh=148&amp;tbnw=86&amp;prev=/images%3Fq%3Dafrodita%26um%3D1%26hl%3Dsr%26sa%3DN%26rlz%3D1T4RNWN_enRS309RS310%26tbs%3Disch:1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e/ed/Testosterone_structure.png&amp;imgrefurl=http://sr.wikipedia.org/wiki/%25D0%25A1%25D0%25BB%25D0%25B8%25D0%25BA%25D0%25B0:Testosterone_structure.png&amp;usg=__RfwQmTtAYwbyDdJnxx-ZM-WVy0o=&amp;h=691&amp;w=1071&amp;sz=16&amp;hl=sr&amp;start=93&amp;um=1&amp;itbs=1&amp;tbnid=eBgb7FA_jfS_PM:&amp;tbnh=97&amp;tbnw=150&amp;prev=/images%3Fq%3Dtestosteron%26start%3D90%26um%3D1%26hl%3Dsr%26sa%3DN%26rlz%3D1T4RNWN_enRS309RS310%26ndsp%3D18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e/ed/Testosterone_structure.png&amp;imgrefurl=http://sr.wikipedia.org/wiki/%25D0%25A1%25D0%25BB%25D0%25B8%25D0%25BA%25D0%25B0:Testosterone_structure.png&amp;usg=__RfwQmTtAYwbyDdJnxx-ZM-WVy0o=&amp;h=691&amp;w=1071&amp;sz=16&amp;hl=sr&amp;start=93&amp;um=1&amp;itbs=1&amp;tbnid=eBgb7FA_jfS_PM:&amp;tbnh=97&amp;tbnw=150&amp;prev=/images%3Fq%3Dtestosteron%26start%3D90%26um%3D1%26hl%3Dsr%26sa%3DN%26rlz%3D1T4RNWN_enRS309RS310%26ndsp%3D18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85520" y="1905120"/>
            <a:ext cx="835812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Злоупотреб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</a:t>
            </a: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зависност</a:t>
            </a: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од</a:t>
            </a: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анаболичких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тероид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000080" y="3978360"/>
            <a:ext cx="83581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b7"/>
                </a:solidFill>
                <a:latin typeface="Comic Sans MS"/>
              </a:rPr>
              <a:t>Доц</a:t>
            </a:r>
            <a:r>
              <a:rPr b="1" lang="sr-Latn-CS" sz="2400" spc="-1" strike="noStrike">
                <a:solidFill>
                  <a:srgbClr val="ffffb7"/>
                </a:solidFill>
                <a:latin typeface="Comic Sans MS"/>
              </a:rPr>
              <a:t>. </a:t>
            </a:r>
            <a:r>
              <a:rPr b="1" lang="sr-CS" sz="2400" spc="-1" strike="noStrike">
                <a:solidFill>
                  <a:srgbClr val="ffffb7"/>
                </a:solidFill>
                <a:latin typeface="Comic Sans MS"/>
              </a:rPr>
              <a:t>Владим</a:t>
            </a:r>
            <a:r>
              <a:rPr b="1" lang="sr-Latn-CS" sz="2400" spc="-1" strike="noStrike">
                <a:solidFill>
                  <a:srgbClr val="ffffb7"/>
                </a:solidFill>
                <a:latin typeface="Comic Sans MS"/>
              </a:rPr>
              <a:t>i</a:t>
            </a:r>
            <a:r>
              <a:rPr b="1" lang="sr-CS" sz="2400" spc="-1" strike="noStrike">
                <a:solidFill>
                  <a:srgbClr val="ffffb7"/>
                </a:solidFill>
                <a:latin typeface="Comic Sans MS"/>
              </a:rPr>
              <a:t>р</a:t>
            </a:r>
            <a:r>
              <a:rPr b="1" lang="sr-Latn-CS" sz="2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b7"/>
                </a:solidFill>
                <a:latin typeface="Comic Sans MS"/>
              </a:rPr>
              <a:t>Јањић</a:t>
            </a:r>
            <a:r>
              <a:rPr b="1" lang="sr-Latn-CS" sz="2400" spc="-1" strike="noStrike">
                <a:solidFill>
                  <a:srgbClr val="ffffb7"/>
                </a:solidFill>
                <a:latin typeface="Comic Sans MS"/>
              </a:rPr>
              <a:t>-</a:t>
            </a:r>
            <a:r>
              <a:rPr b="1" lang="sr-CS" sz="2400" spc="-1" strike="noStrike">
                <a:solidFill>
                  <a:srgbClr val="ffffb7"/>
                </a:solidFill>
                <a:latin typeface="Comic Sans MS"/>
              </a:rPr>
              <a:t>псих</a:t>
            </a:r>
            <a:r>
              <a:rPr b="1" lang="sr-Latn-CS" sz="2400" spc="-1" strike="noStrike">
                <a:solidFill>
                  <a:srgbClr val="ffffb7"/>
                </a:solidFill>
                <a:latin typeface="Comic Sans MS"/>
              </a:rPr>
              <a:t>i</a:t>
            </a:r>
            <a:r>
              <a:rPr b="1" lang="sr-CS" sz="2400" spc="-1" strike="noStrike">
                <a:solidFill>
                  <a:srgbClr val="ffffb7"/>
                </a:solidFill>
                <a:latin typeface="Comic Sans MS"/>
              </a:rPr>
              <a:t>јат</a:t>
            </a:r>
            <a:r>
              <a:rPr b="1" lang="sr-Latn-CS" sz="2400" spc="-1" strike="noStrike">
                <a:solidFill>
                  <a:srgbClr val="ffffb7"/>
                </a:solidFill>
                <a:latin typeface="Comic Sans MS"/>
              </a:rPr>
              <a:t>a</a:t>
            </a:r>
            <a:r>
              <a:rPr b="1" lang="sr-CS" sz="2400" spc="-1" strike="noStrike">
                <a:solidFill>
                  <a:srgbClr val="ffffb7"/>
                </a:solidFill>
                <a:latin typeface="Comic Sans MS"/>
              </a:rPr>
              <a:t>р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0160" y="3538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(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зло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)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употреб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у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порту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280" y="1974600"/>
            <a:ext cx="84502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Постој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више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100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врст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анаболичких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терои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амо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ал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број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корист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едицинске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врх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већин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лучајев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корист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пор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главном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набављају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илегал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потреб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етандростенол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Нандрол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танозол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Метенол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Content Placeholder 2"/>
          <p:cNvSpPr/>
          <p:nvPr/>
        </p:nvSpPr>
        <p:spPr>
          <a:xfrm>
            <a:off x="501480" y="333360"/>
            <a:ext cx="8534520" cy="49528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ffffff"/>
                </a:solidFill>
                <a:latin typeface="Calibri"/>
              </a:rPr>
              <a:t>Пирамидни</a:t>
            </a: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1900" spc="-1" strike="noStrike">
                <a:solidFill>
                  <a:srgbClr val="ffffff"/>
                </a:solidFill>
                <a:latin typeface="Calibri"/>
              </a:rPr>
              <a:t>начин</a:t>
            </a: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1900" spc="-1" strike="noStrike">
                <a:solidFill>
                  <a:srgbClr val="ffffff"/>
                </a:solidFill>
                <a:latin typeface="Calibri"/>
              </a:rPr>
              <a:t>примене</a:t>
            </a: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 (6-12 </a:t>
            </a:r>
            <a:r>
              <a:rPr b="1" lang="sr-CS" sz="1900" spc="-1" strike="noStrike">
                <a:solidFill>
                  <a:srgbClr val="ffffff"/>
                </a:solidFill>
                <a:latin typeface="Calibri"/>
              </a:rPr>
              <a:t>недеља</a:t>
            </a: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ffffff"/>
                </a:solidFill>
                <a:latin typeface="Calibri"/>
              </a:rPr>
              <a:t>Начин</a:t>
            </a: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1900" spc="-1" strike="noStrike">
                <a:solidFill>
                  <a:srgbClr val="ffffff"/>
                </a:solidFill>
                <a:latin typeface="Calibri"/>
              </a:rPr>
              <a:t>деловања</a:t>
            </a: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ffffff"/>
                </a:solidFill>
                <a:latin typeface="Calibri"/>
              </a:rPr>
              <a:t>Стероид</a:t>
            </a: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1" lang="sr-CS" sz="1900" spc="-1" strike="noStrike">
                <a:solidFill>
                  <a:srgbClr val="ffffff"/>
                </a:solidFill>
                <a:latin typeface="Calibri"/>
              </a:rPr>
              <a:t>Андрогени</a:t>
            </a: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1900" spc="-1" strike="noStrike">
                <a:solidFill>
                  <a:srgbClr val="ffffff"/>
                </a:solidFill>
                <a:latin typeface="Calibri"/>
              </a:rPr>
              <a:t>рецептор</a:t>
            </a: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sr-CS" sz="1900" spc="-1" strike="noStrike">
                <a:solidFill>
                  <a:srgbClr val="ffffff"/>
                </a:solidFill>
                <a:latin typeface="Calibri"/>
              </a:rPr>
              <a:t>Андрогени</a:t>
            </a: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1900" spc="-1" strike="noStrike">
                <a:solidFill>
                  <a:srgbClr val="ffffff"/>
                </a:solidFill>
                <a:latin typeface="Calibri"/>
              </a:rPr>
              <a:t>рецепторски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sr-CS" sz="10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1000" spc="-1" strike="noStrike">
                <a:solidFill>
                  <a:srgbClr val="ffffff"/>
                </a:solidFill>
                <a:latin typeface="Calibri"/>
              </a:rPr>
              <a:t>цитоплазми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1000" spc="-1" strike="noStrike">
                <a:solidFill>
                  <a:srgbClr val="ffffff"/>
                </a:solidFill>
                <a:latin typeface="Calibri"/>
              </a:rPr>
              <a:t>ћелија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) 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                                             </a:t>
            </a:r>
            <a:r>
              <a:rPr b="1" lang="sr-CS" sz="1900" spc="-1" strike="noStrike">
                <a:solidFill>
                  <a:srgbClr val="ffffff"/>
                </a:solidFill>
                <a:latin typeface="Calibri"/>
              </a:rPr>
              <a:t>комплекс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  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                    </a:t>
            </a:r>
            <a:r>
              <a:rPr b="1" lang="sr-CS" sz="19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1900" spc="-1" strike="noStrike">
                <a:solidFill>
                  <a:srgbClr val="ffffff"/>
                </a:solidFill>
                <a:latin typeface="Calibri"/>
              </a:rPr>
              <a:t>једру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  </a:t>
            </a:r>
            <a:r>
              <a:rPr b="1" lang="sr-CS" sz="1900" spc="-1" strike="noStrike">
                <a:solidFill>
                  <a:srgbClr val="ffffff"/>
                </a:solidFill>
                <a:latin typeface="Calibri"/>
              </a:rPr>
              <a:t>индукује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1900" spc="-1" strike="noStrike">
                <a:solidFill>
                  <a:srgbClr val="ffffff"/>
                </a:solidFill>
                <a:latin typeface="Calibri"/>
              </a:rPr>
              <a:t>транскрипцију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1900" spc="-1" strike="noStrike">
                <a:solidFill>
                  <a:srgbClr val="ffffff"/>
                </a:solidFill>
                <a:latin typeface="Calibri"/>
              </a:rPr>
              <a:t>гена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9900"/>
                </a:solidFill>
                <a:latin typeface="Calibri"/>
              </a:rPr>
              <a:t> 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Calibri"/>
              </a:rPr>
              <a:t>                                                   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Calibri"/>
              </a:rPr>
              <a:t>                                                   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Calibri"/>
              </a:rPr>
              <a:t>                                                                                                     </a:t>
            </a:r>
            <a:r>
              <a:rPr b="1" lang="sr-CS" sz="2300" spc="-1" strike="noStrike">
                <a:solidFill>
                  <a:srgbClr val="ff0000"/>
                </a:solidFill>
                <a:latin typeface="Calibri"/>
              </a:rPr>
              <a:t>синтеза</a:t>
            </a:r>
            <a:r>
              <a:rPr b="1" lang="en-US" sz="23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ff0000"/>
                </a:solidFill>
                <a:latin typeface="Calibri"/>
              </a:rPr>
              <a:t>нових</a:t>
            </a:r>
            <a:r>
              <a:rPr b="1" lang="en-US" sz="23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1" lang="en-US" sz="23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sr-CS" sz="2300" spc="-1" strike="noStrike">
                <a:solidFill>
                  <a:srgbClr val="ff0000"/>
                </a:solidFill>
                <a:latin typeface="Calibri"/>
              </a:rPr>
              <a:t>протеина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Right Arrow 2"/>
          <p:cNvGrpSpPr/>
          <p:nvPr/>
        </p:nvGrpSpPr>
        <p:grpSpPr>
          <a:xfrm>
            <a:off x="1450800" y="1158840"/>
            <a:ext cx="725760" cy="414360"/>
            <a:chOff x="1450800" y="1158840"/>
            <a:chExt cx="725760" cy="414360"/>
          </a:xfrm>
        </p:grpSpPr>
        <p:pic>
          <p:nvPicPr>
            <p:cNvPr id="132" name="Right Arrow 2" descr=""/>
            <p:cNvPicPr/>
            <p:nvPr/>
          </p:nvPicPr>
          <p:blipFill>
            <a:blip r:embed="rId1"/>
            <a:stretch/>
          </p:blipFill>
          <p:spPr>
            <a:xfrm>
              <a:off x="1450800" y="1158840"/>
              <a:ext cx="7257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514520" y="127332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Right Arrow 3"/>
          <p:cNvGrpSpPr/>
          <p:nvPr/>
        </p:nvGrpSpPr>
        <p:grpSpPr>
          <a:xfrm>
            <a:off x="4438800" y="1158840"/>
            <a:ext cx="955440" cy="414360"/>
            <a:chOff x="4438800" y="1158840"/>
            <a:chExt cx="955440" cy="414360"/>
          </a:xfrm>
        </p:grpSpPr>
        <p:pic>
          <p:nvPicPr>
            <p:cNvPr id="135" name="Right Arrow 3" descr=""/>
            <p:cNvPicPr/>
            <p:nvPr/>
          </p:nvPicPr>
          <p:blipFill>
            <a:blip r:embed="rId2"/>
            <a:stretch/>
          </p:blipFill>
          <p:spPr>
            <a:xfrm>
              <a:off x="4438800" y="1158840"/>
              <a:ext cx="95544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500720" y="1273320"/>
              <a:ext cx="7617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Down Arrow 4"/>
          <p:cNvGrpSpPr/>
          <p:nvPr/>
        </p:nvGrpSpPr>
        <p:grpSpPr>
          <a:xfrm>
            <a:off x="6566040" y="1951200"/>
            <a:ext cx="725400" cy="718920"/>
            <a:chOff x="6566040" y="1951200"/>
            <a:chExt cx="725400" cy="718920"/>
          </a:xfrm>
        </p:grpSpPr>
        <p:pic>
          <p:nvPicPr>
            <p:cNvPr id="138" name="Down Arrow 4" descr=""/>
            <p:cNvPicPr/>
            <p:nvPr/>
          </p:nvPicPr>
          <p:blipFill>
            <a:blip r:embed="rId3"/>
            <a:stretch/>
          </p:blipFill>
          <p:spPr>
            <a:xfrm>
              <a:off x="6566040" y="1951200"/>
              <a:ext cx="7254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778800" y="1989000"/>
              <a:ext cx="304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Down Arrow 5"/>
          <p:cNvGrpSpPr/>
          <p:nvPr/>
        </p:nvGrpSpPr>
        <p:grpSpPr>
          <a:xfrm>
            <a:off x="6602400" y="3249720"/>
            <a:ext cx="725400" cy="792000"/>
            <a:chOff x="6602400" y="3249720"/>
            <a:chExt cx="725400" cy="792000"/>
          </a:xfrm>
        </p:grpSpPr>
        <p:pic>
          <p:nvPicPr>
            <p:cNvPr id="141" name="Down Arrow 5" descr=""/>
            <p:cNvPicPr/>
            <p:nvPr/>
          </p:nvPicPr>
          <p:blipFill>
            <a:blip r:embed="rId4"/>
            <a:stretch/>
          </p:blipFill>
          <p:spPr>
            <a:xfrm>
              <a:off x="6602400" y="3249720"/>
              <a:ext cx="7254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6811920" y="3284640"/>
              <a:ext cx="30492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3" name="Picture 8" descr="MicrosoftWord-Document1-2.jpg"/>
          <p:cNvPicPr/>
          <p:nvPr/>
        </p:nvPicPr>
        <p:blipFill>
          <a:blip r:embed="rId5"/>
          <a:stretch/>
        </p:blipFill>
        <p:spPr>
          <a:xfrm>
            <a:off x="826920" y="1844640"/>
            <a:ext cx="4648320" cy="346572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Content Placeholder 2" descr=""/>
          <p:cNvPicPr/>
          <p:nvPr/>
        </p:nvPicPr>
        <p:blipFill>
          <a:blip r:embed="rId1"/>
          <a:stretch/>
        </p:blipFill>
        <p:spPr>
          <a:xfrm>
            <a:off x="231840" y="469800"/>
            <a:ext cx="8547120" cy="6175440"/>
          </a:xfrm>
          <a:prstGeom prst="rect">
            <a:avLst/>
          </a:prstGeom>
          <a:ln w="0">
            <a:noFill/>
          </a:ln>
        </p:spPr>
      </p:pic>
      <p:grpSp>
        <p:nvGrpSpPr>
          <p:cNvPr id="145" name="Down Arrow 2"/>
          <p:cNvGrpSpPr/>
          <p:nvPr/>
        </p:nvGrpSpPr>
        <p:grpSpPr>
          <a:xfrm>
            <a:off x="1127160" y="2401920"/>
            <a:ext cx="2401920" cy="950760"/>
            <a:chOff x="1127160" y="2401920"/>
            <a:chExt cx="2401920" cy="950760"/>
          </a:xfrm>
        </p:grpSpPr>
        <p:pic>
          <p:nvPicPr>
            <p:cNvPr id="146" name="Down Arrow 2" descr=""/>
            <p:cNvPicPr/>
            <p:nvPr/>
          </p:nvPicPr>
          <p:blipFill>
            <a:blip r:embed="rId2"/>
            <a:stretch/>
          </p:blipFill>
          <p:spPr>
            <a:xfrm>
              <a:off x="1127160" y="2401920"/>
              <a:ext cx="240192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758960" y="2438280"/>
              <a:ext cx="114300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8" name="Picture 7" descr=""/>
          <p:cNvPicPr/>
          <p:nvPr/>
        </p:nvPicPr>
        <p:blipFill>
          <a:blip r:embed="rId3"/>
          <a:stretch/>
        </p:blipFill>
        <p:spPr>
          <a:xfrm>
            <a:off x="5486400" y="1752480"/>
            <a:ext cx="25909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26560" y="1844640"/>
            <a:ext cx="8007480" cy="41911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ffffff"/>
                </a:solidFill>
                <a:latin typeface="Comic Sans MS"/>
              </a:rPr>
              <a:t>Начини</a:t>
            </a:r>
            <a:r>
              <a:rPr b="0" lang="ru-RU" sz="2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ffffff"/>
                </a:solidFill>
                <a:latin typeface="Comic Sans MS"/>
              </a:rPr>
              <a:t>примене</a:t>
            </a:r>
            <a:r>
              <a:rPr b="0" lang="ru-RU" sz="25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ffffff"/>
                </a:solidFill>
                <a:latin typeface="Comic Sans MS"/>
              </a:rPr>
              <a:t>Орално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ffffff"/>
                </a:solidFill>
                <a:latin typeface="Comic Sans MS"/>
              </a:rPr>
              <a:t>Интрамускуларно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ffffff"/>
                </a:solidFill>
                <a:latin typeface="Comic Sans MS"/>
              </a:rPr>
              <a:t>Утрљавањем</a:t>
            </a:r>
            <a:r>
              <a:rPr b="0" lang="ru-RU" sz="2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ru-RU" sz="2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ffffff"/>
                </a:solidFill>
                <a:latin typeface="Comic Sans MS"/>
              </a:rPr>
              <a:t>кожу</a:t>
            </a:r>
            <a:r>
              <a:rPr b="0" lang="ru-RU" sz="25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500" spc="-1" strike="noStrike">
                <a:solidFill>
                  <a:srgbClr val="ffffff"/>
                </a:solidFill>
                <a:latin typeface="Comic Sans MS"/>
              </a:rPr>
              <a:t>гелови</a:t>
            </a:r>
            <a:r>
              <a:rPr b="0" lang="ru-RU" sz="2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ru-RU" sz="2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ffffff"/>
                </a:solidFill>
                <a:latin typeface="Comic Sans MS"/>
              </a:rPr>
              <a:t>креме</a:t>
            </a:r>
            <a:r>
              <a:rPr b="0" lang="ru-RU" sz="25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6600"/>
                </a:solidFill>
                <a:latin typeface="Comic Sans MS"/>
              </a:rPr>
              <a:t>10-100 </a:t>
            </a:r>
            <a:r>
              <a:rPr b="1" lang="sr-CS" sz="2500" spc="-1" strike="noStrike">
                <a:solidFill>
                  <a:srgbClr val="ff6600"/>
                </a:solidFill>
                <a:latin typeface="Comic Sans MS"/>
              </a:rPr>
              <a:t>пута</a:t>
            </a:r>
            <a:r>
              <a:rPr b="1" lang="ru-RU" sz="25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sr-CS" sz="2500" spc="-1" strike="noStrike">
                <a:solidFill>
                  <a:srgbClr val="ff6600"/>
                </a:solidFill>
                <a:latin typeface="Comic Sans MS"/>
              </a:rPr>
              <a:t>веће</a:t>
            </a:r>
            <a:r>
              <a:rPr b="1" lang="ru-RU" sz="25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sr-CS" sz="2500" spc="-1" strike="noStrike">
                <a:solidFill>
                  <a:srgbClr val="ff6600"/>
                </a:solidFill>
                <a:latin typeface="Comic Sans MS"/>
              </a:rPr>
              <a:t>доз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sr-CS" sz="2500" spc="-1" strike="noStrike">
                <a:solidFill>
                  <a:srgbClr val="ff6600"/>
                </a:solidFill>
                <a:latin typeface="Comic Sans MS"/>
              </a:rPr>
              <a:t>комбиновање</a:t>
            </a:r>
            <a:r>
              <a:rPr b="1" lang="ru-RU" sz="25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sr-CS" sz="2500" spc="-1" strike="noStrike">
                <a:solidFill>
                  <a:srgbClr val="ff6600"/>
                </a:solidFill>
                <a:latin typeface="Comic Sans MS"/>
              </a:rPr>
              <a:t>два</a:t>
            </a:r>
            <a:r>
              <a:rPr b="1" lang="ru-RU" sz="25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sr-CS" sz="2500" spc="-1" strike="noStrike">
                <a:solidFill>
                  <a:srgbClr val="ff6600"/>
                </a:solidFill>
                <a:latin typeface="Comic Sans MS"/>
              </a:rPr>
              <a:t>или</a:t>
            </a:r>
            <a:r>
              <a:rPr b="1" lang="ru-RU" sz="25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sr-CS" sz="2500" spc="-1" strike="noStrike">
                <a:solidFill>
                  <a:srgbClr val="ff6600"/>
                </a:solidFill>
                <a:latin typeface="Comic Sans MS"/>
              </a:rPr>
              <a:t>више</a:t>
            </a:r>
            <a:r>
              <a:rPr b="1" lang="ru-RU" sz="25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sr-CS" sz="2500" spc="-1" strike="noStrike">
                <a:solidFill>
                  <a:srgbClr val="ff6600"/>
                </a:solidFill>
                <a:latin typeface="Comic Sans MS"/>
              </a:rPr>
              <a:t>анаболичких</a:t>
            </a:r>
            <a:r>
              <a:rPr b="1" lang="ru-RU" sz="25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sr-CS" sz="2500" spc="-1" strike="noStrike">
                <a:solidFill>
                  <a:srgbClr val="ff6600"/>
                </a:solidFill>
                <a:latin typeface="Comic Sans MS"/>
              </a:rPr>
              <a:t>стероид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ff6600"/>
                </a:solidFill>
                <a:latin typeface="Comic Sans MS"/>
              </a:rPr>
              <a:t>Мешање</a:t>
            </a:r>
            <a:r>
              <a:rPr b="1" lang="ru-RU" sz="25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sr-CS" sz="2500" spc="-1" strike="noStrike">
                <a:solidFill>
                  <a:srgbClr val="ff6600"/>
                </a:solidFill>
                <a:latin typeface="Comic Sans MS"/>
              </a:rPr>
              <a:t>оралне</a:t>
            </a:r>
            <a:r>
              <a:rPr b="1" lang="ru-RU" sz="25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sr-CS" sz="2500" spc="-1" strike="noStrike">
                <a:solidFill>
                  <a:srgbClr val="ff6600"/>
                </a:solidFill>
                <a:latin typeface="Comic Sans MS"/>
              </a:rPr>
              <a:t>и</a:t>
            </a:r>
            <a:r>
              <a:rPr b="1" lang="ru-RU" sz="25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sr-CS" sz="2500" spc="-1" strike="noStrike">
                <a:solidFill>
                  <a:srgbClr val="ff6600"/>
                </a:solidFill>
                <a:latin typeface="Comic Sans MS"/>
              </a:rPr>
              <a:t>и</a:t>
            </a:r>
            <a:r>
              <a:rPr b="1" lang="ru-RU" sz="2500" spc="-1" strike="noStrike">
                <a:solidFill>
                  <a:srgbClr val="ff6600"/>
                </a:solidFill>
                <a:latin typeface="Comic Sans MS"/>
              </a:rPr>
              <a:t>.</a:t>
            </a:r>
            <a:r>
              <a:rPr b="1" lang="sr-CS" sz="2500" spc="-1" strike="noStrike">
                <a:solidFill>
                  <a:srgbClr val="ff6600"/>
                </a:solidFill>
                <a:latin typeface="Comic Sans MS"/>
              </a:rPr>
              <a:t>м</a:t>
            </a:r>
            <a:r>
              <a:rPr b="1" lang="ru-RU" sz="2500" spc="-1" strike="noStrike">
                <a:solidFill>
                  <a:srgbClr val="ff6600"/>
                </a:solidFill>
                <a:latin typeface="Comic Sans MS"/>
              </a:rPr>
              <a:t>. </a:t>
            </a:r>
            <a:r>
              <a:rPr b="1" lang="sr-CS" sz="2500" spc="-1" strike="noStrike">
                <a:solidFill>
                  <a:srgbClr val="ff6600"/>
                </a:solidFill>
                <a:latin typeface="Comic Sans MS"/>
              </a:rPr>
              <a:t>форм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ff6600"/>
                </a:solidFill>
                <a:latin typeface="Comic Sans MS"/>
              </a:rPr>
              <a:t>Стероиди</a:t>
            </a:r>
            <a:r>
              <a:rPr b="1" lang="ru-RU" sz="25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sr-CS" sz="2500" spc="-1" strike="noStrike">
                <a:solidFill>
                  <a:srgbClr val="ff6600"/>
                </a:solidFill>
                <a:latin typeface="Comic Sans MS"/>
              </a:rPr>
              <a:t>у</a:t>
            </a:r>
            <a:r>
              <a:rPr b="1" lang="ru-RU" sz="25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sr-CS" sz="2500" spc="-1" strike="noStrike">
                <a:solidFill>
                  <a:srgbClr val="ff6600"/>
                </a:solidFill>
                <a:latin typeface="Comic Sans MS"/>
              </a:rPr>
              <a:t>ветерин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2" descr="images 1.jpg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17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0160" y="701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b7"/>
                </a:solidFill>
                <a:latin typeface="Comic Sans MS"/>
              </a:rPr>
              <a:t>Метандростенолон</a:t>
            </a:r>
            <a:r>
              <a:rPr b="1" lang="sr-Latn-CS" sz="3200" spc="-1" strike="noStrike">
                <a:solidFill>
                  <a:srgbClr val="ffffb7"/>
                </a:solidFill>
                <a:latin typeface="Comic Sans MS"/>
              </a:rPr>
              <a:t> </a:t>
            </a:r>
            <a:br>
              <a:rPr sz="3200"/>
            </a:br>
            <a:r>
              <a:rPr b="1" lang="sr-Latn-CS" sz="3200" spc="-1" strike="noStrike">
                <a:solidFill>
                  <a:srgbClr val="ffffb7"/>
                </a:solidFill>
                <a:latin typeface="Comic Sans MS"/>
              </a:rPr>
              <a:t>(</a:t>
            </a:r>
            <a:r>
              <a:rPr b="1" lang="sr-CS" sz="3200" spc="-1" strike="noStrike">
                <a:solidFill>
                  <a:srgbClr val="ffffb7"/>
                </a:solidFill>
                <a:latin typeface="Comic Sans MS"/>
              </a:rPr>
              <a:t>Дианабол</a:t>
            </a:r>
            <a:r>
              <a:rPr b="1" lang="sr-Latn-CS" sz="3200" spc="-1" strike="noStrike">
                <a:solidFill>
                  <a:srgbClr val="ffffb7"/>
                </a:solidFill>
                <a:latin typeface="Comic Sans MS"/>
              </a:rPr>
              <a:t>, </a:t>
            </a:r>
            <a:r>
              <a:rPr b="1" lang="sr-CS" sz="3200" spc="-1" strike="noStrike">
                <a:solidFill>
                  <a:srgbClr val="ffffb7"/>
                </a:solidFill>
                <a:latin typeface="Comic Sans MS"/>
              </a:rPr>
              <a:t>Метан</a:t>
            </a:r>
            <a:r>
              <a:rPr b="1" lang="sr-Latn-CS" sz="3200" spc="-1" strike="noStrike">
                <a:solidFill>
                  <a:srgbClr val="ffffb7"/>
                </a:solidFill>
                <a:latin typeface="Comic Sans MS"/>
              </a:rPr>
              <a:t>, </a:t>
            </a:r>
            <a:r>
              <a:rPr b="1" lang="sr-CS" sz="3200" spc="-1" strike="noStrike">
                <a:solidFill>
                  <a:srgbClr val="ffffb7"/>
                </a:solidFill>
                <a:latin typeface="Comic Sans MS"/>
              </a:rPr>
              <a:t>Напосим</a:t>
            </a:r>
            <a:r>
              <a:rPr b="1" lang="sr-Latn-CS" sz="3200" spc="-1" strike="noStrike">
                <a:solidFill>
                  <a:srgbClr val="ffffb7"/>
                </a:solidFill>
                <a:latin typeface="Comic Sans MS"/>
              </a:rPr>
              <a:t>)</a:t>
            </a:r>
            <a:br>
              <a:rPr sz="4000"/>
            </a:b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01360" y="191592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Први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анаболички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стероид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створен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1955.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потреб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америчких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дизач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тего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Убрзава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метаболизам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синтез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протеина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даје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позитиван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нитроген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балан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Снажно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подстиче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повећавање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снаге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мишићне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масе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побољшава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физичку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издржљивост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те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суперкомпензацију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гликогена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мишићима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Побољшав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апсорпцију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калцијум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отклањ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остеопороз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Повећав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ниво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допамин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мозгу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побољшано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расположењ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Метандростенолон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+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Метенолон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Арнолд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Шварценеге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Карактеристичан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спортов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који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захтевају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велику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експлозивну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снагу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дизањ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тегов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бацањ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кладив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..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0160" y="701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b7"/>
                </a:solidFill>
                <a:latin typeface="Comic Sans MS"/>
              </a:rPr>
              <a:t>Метандростенолон</a:t>
            </a:r>
            <a:r>
              <a:rPr b="1" lang="sr-Latn-CS" sz="3200" spc="-1" strike="noStrike">
                <a:solidFill>
                  <a:srgbClr val="ffffb7"/>
                </a:solidFill>
                <a:latin typeface="Comic Sans MS"/>
              </a:rPr>
              <a:t> </a:t>
            </a:r>
            <a:br>
              <a:rPr sz="3200"/>
            </a:br>
            <a:r>
              <a:rPr b="1" lang="sr-Latn-CS" sz="3200" spc="-1" strike="noStrike">
                <a:solidFill>
                  <a:srgbClr val="ffffb7"/>
                </a:solidFill>
                <a:latin typeface="Comic Sans MS"/>
              </a:rPr>
              <a:t>(</a:t>
            </a:r>
            <a:r>
              <a:rPr b="1" lang="sr-CS" sz="3200" spc="-1" strike="noStrike">
                <a:solidFill>
                  <a:srgbClr val="ffffb7"/>
                </a:solidFill>
                <a:latin typeface="Comic Sans MS"/>
              </a:rPr>
              <a:t>Дианабол</a:t>
            </a:r>
            <a:r>
              <a:rPr b="1" lang="sr-Latn-CS" sz="3200" spc="-1" strike="noStrike">
                <a:solidFill>
                  <a:srgbClr val="ffffb7"/>
                </a:solidFill>
                <a:latin typeface="Comic Sans MS"/>
              </a:rPr>
              <a:t>, </a:t>
            </a:r>
            <a:r>
              <a:rPr b="1" lang="sr-CS" sz="3200" spc="-1" strike="noStrike">
                <a:solidFill>
                  <a:srgbClr val="ffffb7"/>
                </a:solidFill>
                <a:latin typeface="Comic Sans MS"/>
              </a:rPr>
              <a:t>Метан</a:t>
            </a:r>
            <a:r>
              <a:rPr b="1" lang="sr-Latn-CS" sz="3200" spc="-1" strike="noStrike">
                <a:solidFill>
                  <a:srgbClr val="ffffb7"/>
                </a:solidFill>
                <a:latin typeface="Comic Sans MS"/>
              </a:rPr>
              <a:t>, </a:t>
            </a:r>
            <a:r>
              <a:rPr b="1" lang="sr-CS" sz="3200" spc="-1" strike="noStrike">
                <a:solidFill>
                  <a:srgbClr val="ffffb7"/>
                </a:solidFill>
                <a:latin typeface="Comic Sans MS"/>
              </a:rPr>
              <a:t>Напосим</a:t>
            </a:r>
            <a:r>
              <a:rPr b="1" lang="sr-Latn-CS" sz="3200" spc="-1" strike="noStrike">
                <a:solidFill>
                  <a:srgbClr val="ffffb7"/>
                </a:solidFill>
                <a:latin typeface="Comic Sans MS"/>
              </a:rPr>
              <a:t>)</a:t>
            </a:r>
            <a:br>
              <a:rPr sz="4000"/>
            </a:b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Токсично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дејство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на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јетру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(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иреверзибилне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промене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Посредством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ароматазе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прелази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у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естрогене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(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феминизација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гинекомастија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ретенција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воде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у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мишићима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  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ЛДЛ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      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ХДЛ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холестерол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 =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артериосклероз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Подстиче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андрогену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ћелавос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Изазива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бенигну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хиперплазију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простат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Инхибиција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лучења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тестостерона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     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пад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либида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импотенциј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Подстиче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појаву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акн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Повећање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крвног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притиск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Еуфорија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агресивнос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1258920" y="335772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5"/>
          <p:cNvSpPr/>
          <p:nvPr/>
        </p:nvSpPr>
        <p:spPr>
          <a:xfrm rot="10800000">
            <a:off x="2411280" y="3357720"/>
            <a:ext cx="144720" cy="287280"/>
          </a:xfrm>
          <a:prstGeom prst="upArrow">
            <a:avLst>
              <a:gd name="adj1" fmla="val 50000"/>
              <a:gd name="adj2" fmla="val 4962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6"/>
          <p:cNvSpPr/>
          <p:nvPr/>
        </p:nvSpPr>
        <p:spPr>
          <a:xfrm rot="5400000">
            <a:off x="5939640" y="4653720"/>
            <a:ext cx="2887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0160" y="701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b7"/>
                </a:solidFill>
                <a:latin typeface="Comic Sans MS"/>
              </a:rPr>
              <a:t>Нандролон</a:t>
            </a:r>
            <a:r>
              <a:rPr b="1" lang="sr-Latn-CS" sz="3200" spc="-1" strike="noStrike">
                <a:solidFill>
                  <a:srgbClr val="ffffb7"/>
                </a:solidFill>
                <a:latin typeface="Comic Sans MS"/>
              </a:rPr>
              <a:t> </a:t>
            </a:r>
            <a:br>
              <a:rPr sz="3200"/>
            </a:br>
            <a:r>
              <a:rPr b="1" lang="sr-Latn-CS" sz="3200" spc="-1" strike="noStrike">
                <a:solidFill>
                  <a:srgbClr val="ffffb7"/>
                </a:solidFill>
                <a:latin typeface="Comic Sans MS"/>
              </a:rPr>
              <a:t>(</a:t>
            </a:r>
            <a:r>
              <a:rPr b="1" lang="sr-CS" sz="3200" spc="-1" strike="noStrike">
                <a:solidFill>
                  <a:srgbClr val="ffffb7"/>
                </a:solidFill>
                <a:latin typeface="Comic Sans MS"/>
              </a:rPr>
              <a:t>Дека</a:t>
            </a:r>
            <a:r>
              <a:rPr b="1" lang="sr-Latn-CS" sz="3200" spc="-1" strike="noStrike">
                <a:solidFill>
                  <a:srgbClr val="ffffb7"/>
                </a:solidFill>
                <a:latin typeface="Comic Sans MS"/>
              </a:rPr>
              <a:t>-</a:t>
            </a:r>
            <a:r>
              <a:rPr b="1" lang="sr-CS" sz="3200" spc="-1" strike="noStrike">
                <a:solidFill>
                  <a:srgbClr val="ffffb7"/>
                </a:solidFill>
                <a:latin typeface="Comic Sans MS"/>
              </a:rPr>
              <a:t>дураболин</a:t>
            </a:r>
            <a:r>
              <a:rPr b="1" lang="sr-Latn-CS" sz="3200" spc="-1" strike="noStrike">
                <a:solidFill>
                  <a:srgbClr val="ffffb7"/>
                </a:solidFill>
                <a:latin typeface="Comic Sans MS"/>
              </a:rPr>
              <a:t>)</a:t>
            </a:r>
            <a:br>
              <a:rPr sz="4000"/>
            </a:b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01360" y="177300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Дериват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нортестостеро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Најчешћ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примењуј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депо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облику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Нандролон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деканоа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Даје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ињекцијама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50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мг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једном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месечно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али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спортисти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често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користе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400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мг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па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600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мг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једном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недељ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Изазив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повећањ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тврдоћ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снаг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мишић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као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повећав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издржљивос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Корист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г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често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пливачи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спринтери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Често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комбинуј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Метандростенолом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што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утич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н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повећањ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мас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дефинициј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мишић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Подстич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обнову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хрскавичавог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тки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Има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снажно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инхибиторно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дејство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на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сопствени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тестостерон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0160" y="701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b7"/>
                </a:solidFill>
                <a:latin typeface="Comic Sans MS"/>
              </a:rPr>
              <a:t>Станозолол</a:t>
            </a:r>
            <a:r>
              <a:rPr b="1" lang="sr-Latn-CS" sz="3200" spc="-1" strike="noStrike">
                <a:solidFill>
                  <a:srgbClr val="ffffb7"/>
                </a:solidFill>
                <a:latin typeface="Comic Sans MS"/>
              </a:rPr>
              <a:t> </a:t>
            </a:r>
            <a:br>
              <a:rPr sz="3200"/>
            </a:br>
            <a:r>
              <a:rPr b="1" lang="sr-Latn-CS" sz="3200" spc="-1" strike="noStrike">
                <a:solidFill>
                  <a:srgbClr val="ffffb7"/>
                </a:solidFill>
                <a:latin typeface="Comic Sans MS"/>
              </a:rPr>
              <a:t>(Winstrol)</a:t>
            </a:r>
            <a:br>
              <a:rPr sz="4000"/>
            </a:b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01360" y="177300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Дериват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дихидротестостеро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Показуј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јак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анаболичк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ефект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Даје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ињекцијама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таблета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Им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слабиј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андроген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ефект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п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г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корист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жен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Побољшав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квалитет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мишић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дајући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им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снагу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експлозивнос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Корист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г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често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пливачи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атлетичари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тимским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спортовим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Често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комбинуј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Метенолоном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што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утич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н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бољу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дефиницију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мишић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Атлетичар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Бен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Џонсон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дисквалификован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н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ОИ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1988.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Сеул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Има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значајно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токсично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дејство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на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јетр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0160" y="701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b7"/>
                </a:solidFill>
                <a:latin typeface="Comic Sans MS"/>
              </a:rPr>
              <a:t>Метенолон</a:t>
            </a:r>
            <a:br>
              <a:rPr sz="3200"/>
            </a:br>
            <a:r>
              <a:rPr b="1" lang="sr-Latn-CS" sz="3200" spc="-1" strike="noStrike">
                <a:solidFill>
                  <a:srgbClr val="ffffb7"/>
                </a:solidFill>
                <a:latin typeface="Comic Sans MS"/>
              </a:rPr>
              <a:t>(Primobolan-Depot, Primobolan S)</a:t>
            </a:r>
            <a:br>
              <a:rPr sz="4000"/>
            </a:b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01360" y="1844640"/>
            <a:ext cx="8450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Дериват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дихидротестостеро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Један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најбезбеднији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Даје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ињекцијама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таблета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Им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слабиј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андроген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ефект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п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г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корист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жен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Побољшав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дефиницију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мишић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Често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комбинуј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Метандростенолоном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Атлетичарк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Катрин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Краб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(100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м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200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м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)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признал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д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га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је</a:t>
            </a:r>
            <a:r>
              <a:rPr b="0" lang="sr-Latn-C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Comic Sans MS"/>
              </a:rPr>
              <a:t>користил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Нема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токсично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дејство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на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јетру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слабо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утиче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на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тестостерон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не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претвара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се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у</a:t>
            </a:r>
            <a:r>
              <a:rPr b="0" lang="sr-Latn-CS" sz="2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ff3300"/>
                </a:solidFill>
                <a:latin typeface="Comic Sans MS"/>
              </a:rPr>
              <a:t>естроген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016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Злоупотреба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и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зависност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01360" y="1989000"/>
            <a:ext cx="8450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вако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кориштење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анаболичких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тероида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мимо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медицинско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терапијски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оправданих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разлога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матра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злоупотребом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Већина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злоупотребљаваних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тероида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набављају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илегално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кријумчарењем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из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апотека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интетизују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тајним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лабораторијама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Шта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су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анаболички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стероиди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?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643040"/>
            <a:ext cx="8450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Анаболичк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ероид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лас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стероидних</a:t>
            </a: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 </a:t>
            </a:r>
            <a:r>
              <a:rPr b="0" lang="sr-CS" sz="24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хорм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н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иј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имарн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иолошк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ефека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тенцирањ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биосинтезе</a:t>
            </a: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 </a:t>
            </a:r>
            <a:r>
              <a:rPr b="0" lang="sr-CS" sz="24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проте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ериват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стостерона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( 10 x ♂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♀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ани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950-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ткривен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в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војств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естостерон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анаболицко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војство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зграђуј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валитетн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ишицн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ас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е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асно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андроген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војств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тич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јав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аскулинизациј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азвој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ушких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елесних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арактеристик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016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Зашто</a:t>
            </a:r>
            <a:r>
              <a:rPr b="1" lang="en-US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људи</a:t>
            </a:r>
            <a:r>
              <a:rPr b="1" lang="en-US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злоупотребљавају</a:t>
            </a:r>
            <a:r>
              <a:rPr b="1" lang="en-US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анаболицке</a:t>
            </a:r>
            <a:r>
              <a:rPr b="1" lang="en-US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стероиде</a:t>
            </a:r>
            <a:r>
              <a:rPr b="1" lang="en-US" sz="3600" spc="-1" strike="noStrike">
                <a:solidFill>
                  <a:srgbClr val="ffffb7"/>
                </a:solidFill>
                <a:latin typeface="Comic Sans MS"/>
              </a:rPr>
              <a:t>?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01360" y="1989000"/>
            <a:ext cx="8450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Побољшање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резултат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портским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такмичењи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Искривљен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лик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о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вом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телу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дисморфиј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Повећање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мишићне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масе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циљу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заштите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насиљ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Проблем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идентитет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адолесценцији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каснијем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живо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016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Зашто</a:t>
            </a:r>
            <a:r>
              <a:rPr b="1" lang="en-US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људи</a:t>
            </a:r>
            <a:r>
              <a:rPr b="1" lang="en-US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злоупотребљавају</a:t>
            </a:r>
            <a:r>
              <a:rPr b="1" lang="en-US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анаболицке</a:t>
            </a:r>
            <a:r>
              <a:rPr b="1" lang="en-US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стероиде</a:t>
            </a:r>
            <a:r>
              <a:rPr b="1" lang="en-US" sz="3600" spc="-1" strike="noStrike">
                <a:solidFill>
                  <a:srgbClr val="ffffb7"/>
                </a:solidFill>
                <a:latin typeface="Comic Sans MS"/>
              </a:rPr>
              <a:t>?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01360" y="1989000"/>
            <a:ext cx="8450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Побољшање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резултат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портским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такмичењи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ЖЕЉ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Д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БУДЕ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ПРВИ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НАЈБОЉИ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НЕКАД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ЈЕ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ТОЛИКО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ЈАК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Д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У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ДОЗВОЉЕН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”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В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РЕД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3300"/>
                </a:solidFill>
                <a:latin typeface="Comic Sans MS"/>
              </a:rPr>
              <a:t>ЧАК</a:t>
            </a:r>
            <a:r>
              <a:rPr b="0" lang="sr-Latn-CS" sz="3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ff3300"/>
                </a:solidFill>
                <a:latin typeface="Comic Sans MS"/>
              </a:rPr>
              <a:t>И</a:t>
            </a:r>
            <a:r>
              <a:rPr b="0" lang="sr-Latn-CS" sz="3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ff3300"/>
                </a:solidFill>
                <a:latin typeface="Comic Sans MS"/>
              </a:rPr>
              <a:t>ПО</a:t>
            </a:r>
            <a:r>
              <a:rPr b="0" lang="sr-Latn-CS" sz="3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ff3300"/>
                </a:solidFill>
                <a:latin typeface="Comic Sans MS"/>
              </a:rPr>
              <a:t>ЦЕНУ</a:t>
            </a:r>
            <a:r>
              <a:rPr b="0" lang="sr-Latn-CS" sz="3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ff3300"/>
                </a:solidFill>
                <a:latin typeface="Comic Sans MS"/>
              </a:rPr>
              <a:t>СОПСТВЕНОГ</a:t>
            </a:r>
            <a:r>
              <a:rPr b="0" lang="sr-Latn-CS" sz="3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ff3300"/>
                </a:solidFill>
                <a:latin typeface="Comic Sans MS"/>
              </a:rPr>
              <a:t>ЗДРАВЉА</a:t>
            </a:r>
            <a:r>
              <a:rPr b="0" lang="sr-Latn-CS" sz="30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016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b7"/>
                </a:solidFill>
                <a:latin typeface="Comic Sans MS"/>
              </a:rPr>
              <a:t>Зашто</a:t>
            </a:r>
            <a:r>
              <a:rPr b="1" lang="en-US" sz="32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ffffb7"/>
                </a:solidFill>
                <a:latin typeface="Comic Sans MS"/>
              </a:rPr>
              <a:t>људи</a:t>
            </a:r>
            <a:r>
              <a:rPr b="1" lang="en-US" sz="32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ffffb7"/>
                </a:solidFill>
                <a:latin typeface="Comic Sans MS"/>
              </a:rPr>
              <a:t>злоупотребљавају</a:t>
            </a:r>
            <a:r>
              <a:rPr b="1" lang="en-US" sz="32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ffffb7"/>
                </a:solidFill>
                <a:latin typeface="Comic Sans MS"/>
              </a:rPr>
              <a:t>анаболичке</a:t>
            </a:r>
            <a:r>
              <a:rPr b="1" lang="en-US" sz="32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ffffb7"/>
                </a:solidFill>
                <a:latin typeface="Comic Sans MS"/>
              </a:rPr>
              <a:t>стероиде</a:t>
            </a:r>
            <a:r>
              <a:rPr b="1" lang="en-US" sz="3200" spc="-1" strike="noStrike">
                <a:solidFill>
                  <a:srgbClr val="ffffb7"/>
                </a:solidFill>
                <a:latin typeface="Comic Sans MS"/>
              </a:rPr>
              <a:t>?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1360" y="1844640"/>
            <a:ext cx="8450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Искривљен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лик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о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вом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телу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(dismorfij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4" descr="anabolicki-steroid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3068640"/>
            <a:ext cx="2160720" cy="2592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Funny_Sports_3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3070080"/>
            <a:ext cx="2016000" cy="2519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muscle-woman-bodybuilder5ee81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72360" y="3141720"/>
            <a:ext cx="2160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016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Зашто</a:t>
            </a:r>
            <a:r>
              <a:rPr b="1" lang="en-US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људи</a:t>
            </a:r>
            <a:r>
              <a:rPr b="1" lang="en-US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злоупотребљавају</a:t>
            </a:r>
            <a:r>
              <a:rPr b="1" lang="en-US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анаболицке</a:t>
            </a:r>
            <a:r>
              <a:rPr b="1" lang="en-US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стероиде</a:t>
            </a:r>
            <a:r>
              <a:rPr b="1" lang="en-US" sz="3600" spc="-1" strike="noStrike">
                <a:solidFill>
                  <a:srgbClr val="ffffb7"/>
                </a:solidFill>
                <a:latin typeface="Comic Sans MS"/>
              </a:rPr>
              <a:t>?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1830240"/>
            <a:ext cx="8450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Проблем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идентитет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адолесценцији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каснијем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живо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11" descr="belvedere_apollo_pio-clementino_inv10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21156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321300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Weinles_Jakub"/>
          <p:cNvPicPr/>
          <p:nvPr/>
        </p:nvPicPr>
        <p:blipFill>
          <a:blip r:embed="rId5"/>
          <a:stretch/>
        </p:blipFill>
        <p:spPr>
          <a:xfrm>
            <a:off x="5580000" y="3284640"/>
            <a:ext cx="2087640" cy="21603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6"/>
          <p:cNvSpPr/>
          <p:nvPr/>
        </p:nvSpPr>
        <p:spPr>
          <a:xfrm>
            <a:off x="3168720" y="595008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Идеал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лепот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016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b7"/>
                </a:solidFill>
                <a:latin typeface="Comic Sans MS"/>
              </a:rPr>
              <a:t>Зашто</a:t>
            </a:r>
            <a:r>
              <a:rPr b="1" lang="en-US" sz="32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ffffb7"/>
                </a:solidFill>
                <a:latin typeface="Comic Sans MS"/>
              </a:rPr>
              <a:t>људи</a:t>
            </a:r>
            <a:r>
              <a:rPr b="1" lang="en-US" sz="32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ffffb7"/>
                </a:solidFill>
                <a:latin typeface="Comic Sans MS"/>
              </a:rPr>
              <a:t>злоупотребљавају</a:t>
            </a:r>
            <a:r>
              <a:rPr b="1" lang="en-US" sz="32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ffffb7"/>
                </a:solidFill>
                <a:latin typeface="Comic Sans MS"/>
              </a:rPr>
              <a:t>анаболичке</a:t>
            </a:r>
            <a:r>
              <a:rPr b="1" lang="en-US" sz="32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ffffb7"/>
                </a:solidFill>
                <a:latin typeface="Comic Sans MS"/>
              </a:rPr>
              <a:t>стероиде</a:t>
            </a:r>
            <a:r>
              <a:rPr b="1" lang="en-US" sz="3200" spc="-1" strike="noStrike">
                <a:solidFill>
                  <a:srgbClr val="ffffb7"/>
                </a:solidFill>
                <a:latin typeface="Comic Sans MS"/>
              </a:rPr>
              <a:t>?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Модели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идентифика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9" descr="prd_a1279"/>
          <p:cNvPicPr/>
          <p:nvPr/>
        </p:nvPicPr>
        <p:blipFill>
          <a:blip r:embed="rId1"/>
          <a:stretch/>
        </p:blipFill>
        <p:spPr>
          <a:xfrm>
            <a:off x="826920" y="2349360"/>
            <a:ext cx="3097440" cy="23036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0"/>
          <p:cNvSpPr/>
          <p:nvPr/>
        </p:nvSpPr>
        <p:spPr>
          <a:xfrm>
            <a:off x="1612440" y="4889520"/>
            <a:ext cx="163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РОК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РАМБО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АЛПИНИСТ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12" descr="ArnoldSchwarzenegger"/>
          <p:cNvPicPr/>
          <p:nvPr/>
        </p:nvPicPr>
        <p:blipFill>
          <a:blip r:embed="rId2"/>
          <a:stretch/>
        </p:blipFill>
        <p:spPr>
          <a:xfrm>
            <a:off x="5076720" y="2349360"/>
            <a:ext cx="2880000" cy="2232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3"/>
          <p:cNvSpPr/>
          <p:nvPr/>
        </p:nvSpPr>
        <p:spPr>
          <a:xfrm>
            <a:off x="5316480" y="5013360"/>
            <a:ext cx="321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КОНАН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ТЕРМИНАТО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ГУВЕРНЕР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КАЛИФОРНИЈ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51920" y="151920"/>
            <a:ext cx="48769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ЕЖЕЉЕНА ЕФЕКТИ ЗЛОУПОТРЕБЕ СТЕРОИД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Хормонски систе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мушкарц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неплодност, гинекомастија, атрофије тестиса, сексуална дисфункција, увећање проста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жен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 знаци вирилизације (увећање клиториса, појачана маљавост) поремећај менструационог циклуса, атрофија дој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оба пол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ћелавост мушког тип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Мишићноскелетни систе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изак раст, руптура тетив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ардиоваскуларни систе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нфаркт миокарда, увећање леве срчане коморе, хипертензија, аритмије, плућна ембол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2" descr="side-effects.jpg"/>
          <p:cNvPicPr/>
          <p:nvPr/>
        </p:nvPicPr>
        <p:blipFill>
          <a:blip r:embed="rId1"/>
          <a:stretch/>
        </p:blipFill>
        <p:spPr>
          <a:xfrm>
            <a:off x="4952880" y="0"/>
            <a:ext cx="419112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6840" y="304560"/>
            <a:ext cx="4419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Јетра и бубрез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карци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Kож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келоиди, цисте лојних жлезда, комедони, акне и стр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3" descr="acne-steroid-abuse.jpg"/>
          <p:cNvPicPr/>
          <p:nvPr/>
        </p:nvPicPr>
        <p:blipFill>
          <a:blip r:embed="rId1"/>
          <a:stretch/>
        </p:blipFill>
        <p:spPr>
          <a:xfrm>
            <a:off x="5486400" y="228600"/>
            <a:ext cx="3413160" cy="6324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17228.jpg"/>
          <p:cNvPicPr/>
          <p:nvPr/>
        </p:nvPicPr>
        <p:blipFill>
          <a:blip r:embed="rId2"/>
          <a:stretch/>
        </p:blipFill>
        <p:spPr>
          <a:xfrm>
            <a:off x="685800" y="3505320"/>
            <a:ext cx="380988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0880" y="188640"/>
            <a:ext cx="8382240" cy="5715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висност од стероида 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физичка и психич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6600"/>
                </a:solidFill>
                <a:latin typeface="Arial"/>
              </a:rPr>
              <a:t>Апстиненцијални синдром 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брзе промене расположења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мор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губитак апетита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саница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дуковани сексуални нагон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жња да се узме више стерои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ДЕПРЕСИЈА – покушај самоубиств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5640" y="556920"/>
            <a:ext cx="88394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П</a:t>
            </a:r>
            <a:r>
              <a:rPr b="0" lang="sr-Latn-CS" sz="3000" spc="-1" strike="noStrike">
                <a:solidFill>
                  <a:srgbClr val="ff0000"/>
                </a:solidFill>
                <a:latin typeface="Calibri"/>
              </a:rPr>
              <a:t>сихијатријски ефекти анаболи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ч</a:t>
            </a:r>
            <a:r>
              <a:rPr b="0" lang="sr-Latn-CS" sz="3000" spc="-1" strike="noStrike">
                <a:solidFill>
                  <a:srgbClr val="ff0000"/>
                </a:solidFill>
                <a:latin typeface="Calibri"/>
              </a:rPr>
              <a:t>к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sr-Latn-CS" sz="3000" spc="-1" strike="noStrike">
                <a:solidFill>
                  <a:srgbClr val="ff0000"/>
                </a:solidFill>
                <a:latin typeface="Calibri"/>
              </a:rPr>
              <a:t>-андрогених стероид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93560" y="1910880"/>
            <a:ext cx="8686800" cy="53341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Андрогени анаболички стероиди (ААС) </a:t>
            </a: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су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често </a:t>
            </a: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повезан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са разним психијатријским поремећајима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Особе које дуже злоупотребљавају анаболичке стероиде постају и психички измењен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Међу нелегалним корисницима ААС, тешко се  може процен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ити</a:t>
            </a: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 који од ових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психијатријских поремећаја</a:t>
            </a: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 с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е могу приписати употреби </a:t>
            </a: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ААС, за разлику од основних особина личности корисника или психосоцијалних фактора окружења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при употреби </a:t>
            </a:r>
            <a:r>
              <a:rPr b="0" lang="sr-Latn-CS" sz="2200" spc="-1" strike="noStrike">
                <a:solidFill>
                  <a:srgbClr val="ffffff"/>
                </a:solidFill>
                <a:latin typeface="Calibri"/>
              </a:rPr>
              <a:t>ААС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. (</a:t>
            </a: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Perry et al., 2003</a:t>
            </a:r>
            <a:r>
              <a:rPr b="0" i="1" lang="en-US" sz="2200" spc="-1" strike="noStrike">
                <a:solidFill>
                  <a:srgbClr val="ffffff"/>
                </a:solidFill>
                <a:latin typeface="Calibri"/>
              </a:rPr>
              <a:t>; Kanayama et al., 2008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Резултати неких истраживања сугеришу да широк спектар психијатријских нежељених ефеката изазваних употребом ААС су повезани са тежином злоупотребе и интензитет ових нежељених ефеката се појачава кад злоупотреба ескалира </a:t>
            </a:r>
            <a:r>
              <a:rPr b="0" i="1" lang="en-US" sz="2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i="1" lang="sr-Latn-CS" sz="2200" spc="-1" strike="noStrike">
                <a:solidFill>
                  <a:srgbClr val="ffffff"/>
                </a:solidFill>
                <a:latin typeface="Calibri"/>
              </a:rPr>
              <a:t>Pagonis et al., 2006</a:t>
            </a:r>
            <a:r>
              <a:rPr b="0" i="1" lang="en-US" sz="22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996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Comic Sans MS"/>
              </a:rPr>
              <a:t>Kako se može le</a:t>
            </a:r>
            <a:r>
              <a:rPr b="1" lang="sr-Latn-CS" sz="3200" spc="-1" strike="noStrike">
                <a:solidFill>
                  <a:srgbClr val="ffffb7"/>
                </a:solidFill>
                <a:latin typeface="Comic Sans MS"/>
              </a:rPr>
              <a:t>č</a:t>
            </a:r>
            <a:r>
              <a:rPr b="1" lang="en-US" sz="3200" spc="-1" strike="noStrike">
                <a:solidFill>
                  <a:srgbClr val="ffffb7"/>
                </a:solidFill>
                <a:latin typeface="Comic Sans MS"/>
              </a:rPr>
              <a:t>iti zavisnost od steroida?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9720" y="197460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Malobrojna i retka iskust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U nekim slučajevima dovoljan je samo su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Edukovati pacijente šta mogu očekivati tokom odvikavan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Procena rizika od samoubist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U težim slučajevima indikovana hospitaliza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Primena lekova u zavisnosti od simpt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omic Sans MS"/>
              </a:rPr>
              <a:t>Potreban je timski rad lekara različitih specijal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0160" y="3538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Како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су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настали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анаболици</a:t>
            </a:r>
            <a:r>
              <a:rPr b="1" lang="sr-Latn-CS" sz="4000" spc="-1" strike="noStrike">
                <a:solidFill>
                  <a:srgbClr val="ffffb7"/>
                </a:solidFill>
                <a:latin typeface="Comic Sans MS"/>
              </a:rPr>
              <a:t>?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280" y="223812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Comic Sans MS"/>
              </a:rPr>
              <a:t>Анаболички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Comic Sans MS"/>
              </a:rPr>
              <a:t>стероиди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у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интетисани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препара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Мали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андрогени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утица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Велики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анаболички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утица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Comic Sans MS"/>
              </a:rPr>
              <a:t>Тежи</a:t>
            </a:r>
            <a:r>
              <a:rPr b="0" lang="sr-Latn-CS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sr-Latn-CS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Comic Sans MS"/>
              </a:rPr>
              <a:t>синтези</a:t>
            </a:r>
            <a:r>
              <a:rPr b="0" lang="sr-Latn-CS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Comic Sans MS"/>
              </a:rPr>
              <a:t>стероида</a:t>
            </a:r>
            <a:r>
              <a:rPr b="0" lang="sr-Latn-CS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r-Latn-CS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Comic Sans MS"/>
              </a:rPr>
              <a:t>само</a:t>
            </a:r>
            <a:r>
              <a:rPr b="0" lang="sr-Latn-CS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Comic Sans MS"/>
              </a:rPr>
              <a:t>анаболичким</a:t>
            </a:r>
            <a:r>
              <a:rPr b="0" lang="sr-Latn-CS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Comic Sans MS"/>
              </a:rPr>
              <a:t>ефектим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Content Placeholder 3" descr="AnabolicSteroids.png"/>
          <p:cNvPicPr/>
          <p:nvPr/>
        </p:nvPicPr>
        <p:blipFill>
          <a:blip r:embed="rId1"/>
          <a:stretch/>
        </p:blipFill>
        <p:spPr>
          <a:xfrm>
            <a:off x="0" y="685800"/>
            <a:ext cx="4449600" cy="5562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slika9.jpg"/>
          <p:cNvPicPr/>
          <p:nvPr/>
        </p:nvPicPr>
        <p:blipFill>
          <a:blip r:embed="rId2"/>
          <a:stretch/>
        </p:blipFill>
        <p:spPr>
          <a:xfrm>
            <a:off x="4602240" y="676440"/>
            <a:ext cx="4303800" cy="55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01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Како</a:t>
            </a:r>
            <a:r>
              <a:rPr b="1" lang="sr-Latn-CS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су</a:t>
            </a:r>
            <a:r>
              <a:rPr b="1" lang="sr-Latn-CS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настали</a:t>
            </a:r>
            <a:r>
              <a:rPr b="1" lang="sr-Latn-CS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анаболици</a:t>
            </a:r>
            <a:r>
              <a:rPr b="1" lang="sr-Latn-CS" sz="3600" spc="-1" strike="noStrike">
                <a:solidFill>
                  <a:srgbClr val="ffffb7"/>
                </a:solidFill>
                <a:latin typeface="Comic Sans MS"/>
              </a:rPr>
              <a:t>?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450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почетак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XX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век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пресађен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тестис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петл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кокошку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кокошке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развиле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карактеристике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пет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стостеро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золован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1935.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од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мц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ветско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т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нтетиса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абол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мц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авал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аболик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воји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упам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гресив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наних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в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нтетисани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АНАБ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2554200" y="2584440"/>
            <a:ext cx="505080" cy="196920"/>
          </a:xfrm>
          <a:prstGeom prst="rightArrow">
            <a:avLst>
              <a:gd name="adj1" fmla="val 50000"/>
              <a:gd name="adj2" fmla="val 6412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adolf-hitler-joke-4_681576c"/>
          <p:cNvPicPr/>
          <p:nvPr/>
        </p:nvPicPr>
        <p:blipFill>
          <a:blip r:embed="rId1"/>
          <a:stretch/>
        </p:blipFill>
        <p:spPr>
          <a:xfrm>
            <a:off x="826920" y="981000"/>
            <a:ext cx="5040360" cy="37213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829080" y="5229360"/>
            <a:ext cx="80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Постоје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подаци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који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говоре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да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је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Хитлер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користио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Comic Sans MS"/>
              </a:rPr>
              <a:t>анаболик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354360" y="302112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3300"/>
                </a:solidFill>
                <a:latin typeface="Comic Sans MS"/>
              </a:rPr>
              <a:t>АГРЕСИВНОСТ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01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Синтеза</a:t>
            </a:r>
            <a:r>
              <a:rPr b="1" lang="sr-Latn-CS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анаболичких</a:t>
            </a:r>
            <a:r>
              <a:rPr b="1" lang="sr-Latn-CS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стероида</a:t>
            </a:r>
            <a:r>
              <a:rPr b="1" lang="sr-Latn-CS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450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Comic Sans MS"/>
              </a:rPr>
              <a:t>Модификације</a:t>
            </a:r>
            <a:r>
              <a:rPr b="1" lang="sr-Latn-C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Comic Sans MS"/>
              </a:rPr>
              <a:t>молекула</a:t>
            </a:r>
            <a:r>
              <a:rPr b="1" lang="sr-Latn-C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Comic Sans MS"/>
              </a:rPr>
              <a:t>тестостер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Testosterone_struc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924280"/>
            <a:ext cx="4751640" cy="3168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5959800" y="3498840"/>
            <a:ext cx="313128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Анаболички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стероид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Благ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различит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деств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ма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маскулинизациј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Успорен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дејств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Синтеза</a:t>
            </a:r>
            <a:r>
              <a:rPr b="1" lang="sr-Latn-CS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анаболичких</a:t>
            </a:r>
            <a:r>
              <a:rPr b="1" lang="sr-Latn-CS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стероида</a:t>
            </a:r>
            <a:r>
              <a:rPr b="1" lang="sr-Latn-CS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ТЕСТОСТЕР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орално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узет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t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естостерон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98%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разграђује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првим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пролазом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кроз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јетру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не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постиже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e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фек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убацивањем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ЦХ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3 (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алкалне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)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групе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на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лоцирано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место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17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А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спречав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брза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разградња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јетри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токсично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дејство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на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јетру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због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инактивације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неадекватне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ресорпције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праве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зашти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ним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ом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тачем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повећав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ресорпција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a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ли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i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неж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љени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еф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кти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парентералне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форме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су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синте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исани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естри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тестостерона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који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заобилазе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јетру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i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спољав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ју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директно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дејство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на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миш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1" lang="sr-CS" sz="2000" spc="-1" strike="noStrike">
                <a:solidFill>
                  <a:srgbClr val="ffffff"/>
                </a:solidFill>
                <a:latin typeface="Comic Sans MS"/>
              </a:rPr>
              <a:t>ће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мет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нол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ацета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тестостерон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ундеканоат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Testosterone_struc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48720" y="0"/>
            <a:ext cx="12952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0160" y="3538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НДИКАЦИЈ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-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едицинск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8450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Супституциона</a:t>
            </a:r>
            <a:r>
              <a:rPr b="1" lang="sr-Latn-C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ТХ</a:t>
            </a:r>
            <a:r>
              <a:rPr b="1" lang="sr-Latn-C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1" lang="sr-Latn-C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закаснелог</a:t>
            </a:r>
            <a:r>
              <a:rPr b="1" lang="sr-Latn-C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пубертета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Хронична</a:t>
            </a:r>
            <a:r>
              <a:rPr b="1" lang="sr-Latn-C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подхрањеност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Након</a:t>
            </a:r>
            <a:r>
              <a:rPr b="1" lang="sr-Latn-C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великих</a:t>
            </a:r>
            <a:r>
              <a:rPr b="1" lang="sr-Latn-C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хирушких</a:t>
            </a:r>
            <a:r>
              <a:rPr b="1" lang="sr-Latn-C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захвата</a:t>
            </a:r>
            <a:r>
              <a:rPr b="1" lang="sr-Latn-CS" sz="23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стрес</a:t>
            </a:r>
            <a:r>
              <a:rPr b="1" lang="sr-Latn-C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1" lang="sr-Latn-C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организам</a:t>
            </a:r>
            <a:r>
              <a:rPr b="1" lang="sr-Latn-CS" sz="23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1" lang="sr-Latn-C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узнапредовалог</a:t>
            </a:r>
            <a:r>
              <a:rPr b="1" lang="sr-Latn-C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АИДС</a:t>
            </a:r>
            <a:r>
              <a:rPr b="1" lang="sr-Latn-CS" sz="23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а</a:t>
            </a:r>
            <a:r>
              <a:rPr b="1" lang="sr-Latn-CS" sz="23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губитак</a:t>
            </a:r>
            <a:r>
              <a:rPr b="1" lang="sr-Latn-C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мишићне</a:t>
            </a:r>
            <a:r>
              <a:rPr b="1" lang="sr-Latn-C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масе</a:t>
            </a:r>
            <a:r>
              <a:rPr b="1" lang="sr-Latn-CS" sz="23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Индуковање</a:t>
            </a:r>
            <a:r>
              <a:rPr b="1" lang="sr-Latn-C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раста</a:t>
            </a:r>
            <a:r>
              <a:rPr b="1" lang="sr-Latn-C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1" lang="sr-Latn-C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деце</a:t>
            </a:r>
            <a:r>
              <a:rPr b="1" lang="sr-Latn-C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1" lang="sr-Latn-C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поремећајем</a:t>
            </a:r>
            <a:r>
              <a:rPr b="1" lang="sr-Latn-C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раста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Стимулација</a:t>
            </a:r>
            <a:r>
              <a:rPr b="1" lang="sr-Latn-C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костне</a:t>
            </a:r>
            <a:r>
              <a:rPr b="1" lang="sr-Latn-C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сржи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1" lang="sr-Latn-C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неких</a:t>
            </a:r>
            <a:r>
              <a:rPr b="1" lang="sr-Latn-C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форми</a:t>
            </a:r>
            <a:r>
              <a:rPr b="1" lang="sr-Latn-C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апластичне</a:t>
            </a:r>
            <a:r>
              <a:rPr b="1" lang="sr-Latn-C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анемије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Карцинома</a:t>
            </a:r>
            <a:r>
              <a:rPr b="1" lang="sr-Latn-CS" sz="2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300" spc="-1" strike="noStrike">
                <a:solidFill>
                  <a:srgbClr val="ffffff"/>
                </a:solidFill>
                <a:latin typeface="Comic Sans MS"/>
              </a:rPr>
              <a:t>дојке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0160" y="3538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(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зло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)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употреба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у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порту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280" y="223812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Почели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д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користе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порту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постизање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врхунских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резулат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???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Кориштење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анаболичких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стероида</a:t>
            </a:r>
            <a:r>
              <a:rPr b="1" lang="sr-Latn-C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нажно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дстич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већањ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ишић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се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дстич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на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дстич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гресив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седуј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арактеристик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итне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ногим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портовима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2T11:02:34Z</dcterms:created>
  <dc:creator>Goca Toncev</dc:creator>
  <dc:description/>
  <dc:language>en-US</dc:language>
  <cp:lastModifiedBy>admin</cp:lastModifiedBy>
  <dcterms:modified xsi:type="dcterms:W3CDTF">2013-02-17T17:35:24Z</dcterms:modified>
  <cp:revision>102</cp:revision>
  <dc:subject/>
  <dc:title>KAKO PREPOZNATI DEMENCIJU</dc:title>
</cp:coreProperties>
</file>