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029-6339-438E-9DAE-63C94507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AFF-8BBC-4DA2-BD08-1699763C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85F-DD62-41A5-B630-2AEA765E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C9F-E982-4F89-947B-1CAEEAD5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EF3-1E82-4B88-8CC3-AC24E0E5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FEA-3578-449F-9C3C-0D134A9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6DA-422B-40FC-9350-30931AA9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39C-0B78-4B50-8944-63A92A3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3C3-B778-47F7-8463-04DF64B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348-F966-44BF-AB93-7084C0F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2F4-058A-4632-B454-CA5F908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042-43FC-4FE0-B4D3-45CC8E5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6D0-B551-48AE-96C5-AA256197827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1920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вис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наболич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еро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а недеља наста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</a:rPr>
              <a:t>И1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ЛОУПОТРЕБА И ЗАВИСНОСТ ОД ЛЕКОВА И ПА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ндростенол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nabol, Metan, Napo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0800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и анаболички стероид створен 1955.г. за потребе америчких дизача тег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брзава метаболизам и синтезу протеина, даје позитиван нитроген балан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ажно подстиче повећавање снаге и мишићне масе, побољшава и физичку издржљивост, те суперкомпензацију гликогена у мишић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бољшава апсорпцију калцијума и отклања остеопор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допамина у мозгу-побољшано располож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ндростенолон + Метенолон = Арнолд Шварценег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чан за спортове који захтевају велику и експлозивну снагу (дизање тегова, бацање кладива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ндростенол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nabol, Metan, Napo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0800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о дејство на јетру (иреверзибилне промен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редством ароматазе прелази у естрогене (феминизација, гинекомастија, ретенција воде у мишићим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олестерол  = артериоскле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стиче андрогену ћела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азива бенигну хиперплазију прост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ибиција лучења тестостерона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д либида, импотен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стиче појаву ак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крвног прит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уфорија и агрес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ндрол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ka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bolin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0800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рив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ртестосте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њ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лик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ндрол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кано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њекциј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д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се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ти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6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д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ељ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аз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врдоћ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аг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здржљи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ливач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ринте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бин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ндростенол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тич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стич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нов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рскавичав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Има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снажно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инхибиторно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дејство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сопствени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тестосте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озоло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Winstro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0800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рив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хидротестосте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а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аболич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ф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а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њекциј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блет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дрог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фек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бољш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вал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ај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аг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сплоз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ливач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летича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имск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т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бин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еноло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тич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ољ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летич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Џонс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квалификова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98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Има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значајно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токсично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дејство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јет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енол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obolan-Depot, Primobolan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00800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риват дихидротестосте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дан од најбезбедниј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аје се у инјекцијама и таблет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слабије андрогене ефекте па га користе и ж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бољшава дефиницију 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 се комбинује са Метандростенол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тлетичарка Катрин Крабе (100м и 200м) признала да га је корист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Нема токсично дејство на јетру и слабо утиче на тестостерон и не претвара се у естрог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вако кориштење анаболичких стероида мимо медицинско-терапијски оправданих разлога сматра се злоупотреб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ећина злоупотребљаваних стероида набављају се илегално кријумчарењем из апотека или се синтетизују у тајним лабораторија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што људи злоупотребљавају анаболичке стероид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тс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кмичењ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скривљ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л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ел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исморф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ишић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циљ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зашт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сиљ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бл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дентит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долесценц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асниј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живо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што људи злоупотребљавају анаболичке стероид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тс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кмичењ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ЖЕ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БУ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ЈБОЉ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КА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ЈА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ОЗВОЉ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ЧАК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ПО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ЦЕНУ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СОПСТВЕНОГ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ЗДРАВЉА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што људи злоупотребљавају анаболичке стероид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скривљ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л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тел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дисморф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бл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дентит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долесценц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асниј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живо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Идеал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леп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оде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РАМ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ЛПИН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KO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UVERNER KALIFORN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тет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фек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 акни до угрожавајућих по жив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ормонски систем: тестикуларна атрофија, смањење волумена сперме, гинекомастија, ћелавост, маскулинизација код жена, грубља кожа, маљавост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ускулаторни систем: у адолесценцији престанак раста костију пре вре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систем: артериосклероза, кардиоваскуларне болести, инфаркт срца и мозга, хипертензија, сметње циркула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Јетра: тумори јетре, пелиосис  јетре (цисте пуне крв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та су анаболички стероид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4920" y="1643040"/>
            <a:ext cx="8450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наболички стероид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су клас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тероидних хормо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чији је примарни биолошки ефекат потенцирање биосинтезе проте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Деривати тестостерона ( 10 x ♂ &gt; 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Раних 1950-их, откривена два својства тестостер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анаболичко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својство-изграђује квалитетну мишићну масу без масног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андроген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својство утиче на појаву маскулинизације (развој мушких телесних карактерист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тетни ефекти злоупотребе?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жа: акне, цисте, масна кожа, храпава ко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мунски систем: пад имунитета, инфекције, запаљ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ентални поремећаји и сметње понашања: иритабилност, агресивност, насилничко и криминално понашање, еуфорија, повећање енергије, сексуално узбуђење, промене расположења, расејаност, заборавност, конфузија, депрес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ерои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вара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Један број људи који користи стероиде постане завистан, што се види из чињенице да настављају узимати стероиде упркос физичким проблемима, поремећеним друштвеним односима, нервозама и иритабил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јопаснији симптом одвикавања јесте депресија, јер може довести до покушаја самоуби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оше велике количине и времена и новца на дрогу и имају симптоме одвикавања, као што су: промене расположења, преморености, немир, губитак апетита, инсомнија, губитак сексуалног нагона и жеља за узимањем још стеро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512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 се може лечити зависност од стерои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алобројна и ретка иску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неким случајевима довољан је само супор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дуковати пацијенте шта могу очекивати током одвикав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на ризика од самоуби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ежим случајевима индикована хоспитализ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кова у зависности од симпто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требан је тимски рад лекара различитих специјал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боли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наболички стерои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су синтетиса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ндрог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тица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Вели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набол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тица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еж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е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теро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наболич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фект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боли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4502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так XX века пресађени тестиси петла на кокошку </a:t>
            </a:r>
            <a:r>
              <a:rPr b="1" lang="sr-R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кокошке развиле карактеристике пет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стерон изолован 1935. год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емци у II светском рату први синтетисали анабол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емци давали анаболике својим трупама – агресивнос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стоје подаци који говоре да је и Хитлер користио анабол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д знаних први синтетисани ДИАНАБ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анаболичких стеро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6" descr="testosteron.wmf"/>
          <p:cNvPicPr/>
          <p:nvPr/>
        </p:nvPicPr>
        <p:blipFill>
          <a:blip r:embed="rId1"/>
          <a:stretch/>
        </p:blipFill>
        <p:spPr>
          <a:xfrm>
            <a:off x="1139760" y="2989440"/>
            <a:ext cx="2673360" cy="174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дификације молекула тестосте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болички 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о различита дества (мање маскулиниз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порено деј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анаболичких стероида - ТЕСТОСТ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49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рално узет тестостерон се 98% разграђује првим пролазом кроз јетру и не постиже ефек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вођењем -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метил) групе на позицију 17А спречава се брза разградња у јетри (токсично дејство на јет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због инактивације и неадекватне ресорпције праве се са заштитним омотачем (повећава се ресорпција али и нежељени ефек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арентералне форме су синтетисани естри тестостерона који заобилазе јетру и испољавају директно дејство на мишиће 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метенолон ацетат и тестостерон ундеканоа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КА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упституциона терапија код закаснелог пуберт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подхрање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великих хирушких захвата (стрес за организ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узнапредовалог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I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а (губитак мишићне мас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ње раста код деце са поремећајем ра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 костне срж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форми апластичне анем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арцинома дој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т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ли су да се користе у спорту за постизање врхунских резулата??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ишћење анаболичких стерои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нажно подстиче повећање мишићне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дстиче сн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подстиче агрес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едују карактеристике битне у многим спортови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82296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вр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анаболич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терои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и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врх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већ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лучаје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и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порт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глав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абављ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легал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потре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Метандростено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Нандро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танозол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Метено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1:02:34Z</dcterms:created>
  <dc:creator>Goca Toncev</dc:creator>
  <dc:description/>
  <dc:language>en-US</dc:language>
  <cp:lastModifiedBy>Slobodan Novokmet</cp:lastModifiedBy>
  <dcterms:modified xsi:type="dcterms:W3CDTF">2014-01-30T17:15:13Z</dcterms:modified>
  <cp:revision>111</cp:revision>
  <dc:subject/>
  <dc:title>KAKO PREPOZNATI DEMENCIJU</dc:title>
</cp:coreProperties>
</file>